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28AA-28A0-4140-9B21-C878FC241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36C5-4DD6-4243-B3F9-0DDB5C8B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53F8-4AFB-4B3B-AE1C-F15AA7F48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44DA-CD27-43CD-9253-86ED86B3D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24A7-3DFD-4A76-B266-EC1D4B2D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0ED5-B070-4F29-99C4-B3391C4F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B21F-C9AD-48D3-BDB2-50E7F406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78C1-3DB2-4E24-81AD-D9594FEF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A580-794B-495C-A0B7-1748204C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45FC-3AF6-48E0-B1B6-76948CEB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3707-59AD-4417-BDA7-95FD9928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2DE5-4CAB-45B3-B185-1D021C87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E2CC-FAF7-4B11-9D5D-38AA23912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the Subject of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533520" y="1295280"/>
            <a:ext cx="82296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ally played on my team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533520" y="228600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6095880" y="228600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533520" y="320040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S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ll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layed on my t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533520" y="1371600"/>
            <a:ext cx="82296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Kelly and Bess painted a pictur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33520" y="259092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is sentence abou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867280" y="2590920"/>
            <a:ext cx="28958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lly and B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533520" y="342900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KELLY AND B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Kelly and Bes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ainted a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533520" y="1219320"/>
            <a:ext cx="8229600" cy="761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y mother and her friend had a part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533520" y="2286000"/>
            <a:ext cx="5562360" cy="1353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is sentence about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5867280" y="2286000"/>
            <a:ext cx="2895840" cy="1810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mother and her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533520" y="3886200"/>
            <a:ext cx="8229600" cy="184068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MY MOTHER AND HER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y mother and her frie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ad a pa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OMPLETE THE INDEPENDENT PRACTICE HANDOU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33520" y="1447920"/>
            <a:ext cx="8229600" cy="761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Kittens pur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33520" y="274176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6095880" y="274176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tt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533520" y="342900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KITT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Kitte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ur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533520" y="1295280"/>
            <a:ext cx="82296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om and Dad went to the stor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33520" y="2209680"/>
            <a:ext cx="5562360" cy="1353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6095880" y="2209680"/>
            <a:ext cx="2667240" cy="1810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 and 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533520" y="365760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MOM AND 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m and Da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ent to the st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533520" y="1265400"/>
            <a:ext cx="8229600" cy="761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obby and Jimmy played ball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533520" y="2179800"/>
            <a:ext cx="5562360" cy="1353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is sentence about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867280" y="2179800"/>
            <a:ext cx="2895840" cy="1810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by and Jim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533520" y="368784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BOBBY AND JIM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obby and Jimm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layed 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533520" y="1371600"/>
            <a:ext cx="82296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lowers bloom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533520" y="243828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095880" y="243828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533520" y="342900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FLOW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lower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l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33520" y="1523880"/>
            <a:ext cx="82296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om likes it when I get all A’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33520" y="259092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is sentence abou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867280" y="2590920"/>
            <a:ext cx="28958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33520" y="342900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M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likes it when I get all A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533520" y="1371600"/>
            <a:ext cx="82296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ue went swimming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33520" y="274320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6095880" y="274320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533520" y="342900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S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ent swimm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SUBJECT of a sent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838080" y="2378160"/>
            <a:ext cx="7391520" cy="258228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the naming part.  It tells you WHO the sentence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533520" y="1371600"/>
            <a:ext cx="8229600" cy="1219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y students do our homework every nigh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33520" y="274320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is sentence abou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5867280" y="2743200"/>
            <a:ext cx="28958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33520" y="3429000"/>
            <a:ext cx="8229600" cy="332388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MY STU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y studen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o their homework every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533520" y="1295280"/>
            <a:ext cx="82296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ula, Sue, and Pat live in Bosto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533520" y="2209680"/>
            <a:ext cx="5562360" cy="1353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is sentence about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5867280" y="2209680"/>
            <a:ext cx="2895840" cy="1810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ula, Sue, and P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533520" y="342900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PAULA, SUE, AND P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ula, Sue, and Pa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live in Bos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533520" y="1371600"/>
            <a:ext cx="82296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arla made a homeru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533520" y="228600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095880" y="228600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533520" y="312408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CAR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rl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ade a homer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533520" y="1523880"/>
            <a:ext cx="82296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Uncle Joe plays ball with Sam and m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533520" y="259092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is sentence abou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867280" y="2590920"/>
            <a:ext cx="28958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le J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533520" y="342900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UNCLE JO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cle Jo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lays ball with Sam an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533520" y="1371600"/>
            <a:ext cx="82296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ranny gave Ginny a hug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33520" y="251460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6095880" y="251460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533520" y="342900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FRAN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rann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gave Ginny a hu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EMB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990720" y="1219320"/>
            <a:ext cx="7391160" cy="258228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the naming part.  It tells you WHO the sentence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990720" y="4024440"/>
            <a:ext cx="7391160" cy="207396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you read the sentence, ask yourself “WHO is this sentence about?”.  The person or thing the sentence is about is 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I find the subjec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838080" y="1066680"/>
            <a:ext cx="7391520" cy="270432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you read the sentence, ask yourself “WHO is this sentence about?”.  The person or thing the sentence is about is 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838080" y="3902040"/>
            <a:ext cx="7391520" cy="270432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ok for the action word.  Usually, the words in front of the action words in a telling sentence are 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533520" y="1523880"/>
            <a:ext cx="82296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og chased the mail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533520" y="2514600"/>
            <a:ext cx="822960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533520" y="342900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THE DO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do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hased the mail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533520" y="1371600"/>
            <a:ext cx="82296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l’s dad drives the truck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33520" y="251460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095880" y="251460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’s 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533520" y="342900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AL’S 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’s da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rives the tr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533520" y="1447920"/>
            <a:ext cx="8229600" cy="761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l makes a big splash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533520" y="274320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6095880" y="274320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533520" y="350532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akes a big spla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533520" y="1447920"/>
            <a:ext cx="8229600" cy="761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rogs croak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533520" y="259092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6095880" y="259092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533520" y="342900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FRO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rog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ro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533520" y="1447920"/>
            <a:ext cx="8229600" cy="761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e grabs his thing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533520" y="259092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6095880" y="259092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533520" y="358128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H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grabs his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533520" y="1447920"/>
            <a:ext cx="8229600" cy="761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rother and I did our homework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533520" y="266688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095880" y="266688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ther and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533520" y="350532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BROTHER AND 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rother and 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id our home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2T18:52:58Z</dcterms:created>
  <dc:creator>Kristen M. Clasen</dc:creator>
  <dc:description/>
  <dc:language>en-US</dc:language>
  <cp:lastModifiedBy>Laura McDow</cp:lastModifiedBy>
  <dcterms:modified xsi:type="dcterms:W3CDTF">2010-08-17T22:23:50Z</dcterms:modified>
  <cp:revision>12</cp:revision>
  <dc:subject/>
  <dc:title>Complete and Incomplete Sentences</dc:title>
</cp:coreProperties>
</file>